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2B4-38D7-4786-B02C-0DB73AEC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4C3-F0FE-463D-9348-F687FDEA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54B-8E12-4FD2-89C6-761E8AD5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50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21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79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50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821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75C-8A56-4D97-8735-2C0EBA9C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E34E-CC74-4BAA-9AB6-31BD6EEA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012-7063-490F-B498-B6B7B12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D2C-35CF-44C6-8DC1-39E71BA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4ABF-688F-446C-BD26-68293C19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54C-0683-4183-A6D1-5952B81F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79280" y="301680"/>
            <a:ext cx="849132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AD96-2026-4BDC-A518-6DE147F5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5BB-7DF7-49E0-BCF8-7A0D61E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A7D-5322-4664-B73A-10BB211F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1C33-7BB7-40BE-8B54-2E07C3E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D329-6E52-40EB-BC7B-DBFC957A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7648-69CC-4E1E-B8E8-F1143EF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8A04-9935-414F-8BBA-008E9549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50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21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79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50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21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7F9A-DBF2-4465-976D-E3E8A5BC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17B1-6A6A-45E6-ADB4-98BFE7F2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36D3-3589-43B9-8967-A8FCE28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40C9-4222-4934-BE4D-BF045F33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D9FB-094A-4D48-BF17-C45B13F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F013-B58F-4C50-A0C1-4F2CEFD4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BFE-A0DC-44BA-AA5F-4CB21102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79280" y="301680"/>
            <a:ext cx="849132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DC34-F615-46FD-A5D1-29A28C8F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8882-D7FA-4832-8AF7-4FA080E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F5F5-E8B5-4E48-874B-588283D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C415-1AA9-4551-90E2-7A0B0A0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AB7E-A51B-4BDE-B29A-1ABF069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580B-B0FE-4402-86B6-927255FA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0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1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79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950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821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4A3E-E4D0-4A9B-BA3B-0A5635B6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6EF-6037-4D4F-9A37-26AF7543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8DF-8386-4E21-9E91-F3EAE77C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79280" y="301680"/>
            <a:ext cx="849132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913-0258-4C27-988B-3B7FD684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333-25A5-4C70-9B65-B3EA50A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CDC-45BB-4F75-9104-0A64096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028-431B-4ACA-93AC-55D06C6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"/>
          <p:cNvGrpSpPr/>
          <p:nvPr/>
        </p:nvGrpSpPr>
        <p:grpSpPr>
          <a:xfrm>
            <a:off x="0" y="1158840"/>
            <a:ext cx="10090080" cy="6400800"/>
            <a:chOff x="0" y="1158840"/>
            <a:chExt cx="10090080" cy="6400800"/>
          </a:xfrm>
        </p:grpSpPr>
        <p:pic>
          <p:nvPicPr>
            <p:cNvPr id="1" name="Picture 14" descr="content-gradient.jpg"/>
            <p:cNvPicPr/>
            <p:nvPr/>
          </p:nvPicPr>
          <p:blipFill>
            <a:blip r:embed="rId2"/>
            <a:stretch/>
          </p:blipFill>
          <p:spPr>
            <a:xfrm>
              <a:off x="0" y="1158840"/>
              <a:ext cx="82548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5" descr="bottom-content-slogan.jpg"/>
            <p:cNvPicPr/>
            <p:nvPr/>
          </p:nvPicPr>
          <p:blipFill>
            <a:blip r:embed="rId3"/>
            <a:stretch/>
          </p:blipFill>
          <p:spPr>
            <a:xfrm>
              <a:off x="0" y="6829560"/>
              <a:ext cx="781560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8" descr="content-line.jpg"/>
            <p:cNvPicPr/>
            <p:nvPr/>
          </p:nvPicPr>
          <p:blipFill>
            <a:blip r:embed="rId4"/>
            <a:stretch/>
          </p:blipFill>
          <p:spPr>
            <a:xfrm>
              <a:off x="1098720" y="1187280"/>
              <a:ext cx="8991360" cy="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1" descr="aspin-logo.jpg"/>
            <p:cNvPicPr/>
            <p:nvPr/>
          </p:nvPicPr>
          <p:blipFill>
            <a:blip r:embed="rId5"/>
            <a:stretch/>
          </p:blipFill>
          <p:spPr>
            <a:xfrm>
              <a:off x="7920360" y="6775560"/>
              <a:ext cx="1868760" cy="69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79640" y="7380360"/>
            <a:ext cx="17683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87520" y="7380360"/>
            <a:ext cx="3192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9080" y="7380360"/>
            <a:ext cx="1008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0A4C70-B618-4FD6-A1AA-7AFB926E8DC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2"/>
          <p:cNvGrpSpPr/>
          <p:nvPr/>
        </p:nvGrpSpPr>
        <p:grpSpPr>
          <a:xfrm>
            <a:off x="0" y="1158840"/>
            <a:ext cx="10090080" cy="6400800"/>
            <a:chOff x="0" y="1158840"/>
            <a:chExt cx="10090080" cy="6400800"/>
          </a:xfrm>
        </p:grpSpPr>
        <p:pic>
          <p:nvPicPr>
            <p:cNvPr id="47" name="Picture 14" descr="content-gradient.jpg"/>
            <p:cNvPicPr/>
            <p:nvPr/>
          </p:nvPicPr>
          <p:blipFill>
            <a:blip r:embed="rId2"/>
            <a:stretch/>
          </p:blipFill>
          <p:spPr>
            <a:xfrm>
              <a:off x="0" y="1158840"/>
              <a:ext cx="82548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5" descr="bottom-content-slogan.jpg"/>
            <p:cNvPicPr/>
            <p:nvPr/>
          </p:nvPicPr>
          <p:blipFill>
            <a:blip r:embed="rId3"/>
            <a:stretch/>
          </p:blipFill>
          <p:spPr>
            <a:xfrm>
              <a:off x="0" y="6829560"/>
              <a:ext cx="781560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content-line.jpg"/>
            <p:cNvPicPr/>
            <p:nvPr/>
          </p:nvPicPr>
          <p:blipFill>
            <a:blip r:embed="rId4"/>
            <a:stretch/>
          </p:blipFill>
          <p:spPr>
            <a:xfrm>
              <a:off x="1098720" y="1187280"/>
              <a:ext cx="8991360" cy="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aspin-logo.jpg"/>
            <p:cNvPicPr/>
            <p:nvPr/>
          </p:nvPicPr>
          <p:blipFill>
            <a:blip r:embed="rId5"/>
            <a:stretch/>
          </p:blipFill>
          <p:spPr>
            <a:xfrm>
              <a:off x="7920360" y="6775560"/>
              <a:ext cx="1868760" cy="69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3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sp>
          <p:nvSpPr>
            <p:cNvPr id="52" name="Rectangle 16"/>
            <p:cNvSpPr/>
            <p:nvPr/>
          </p:nvSpPr>
          <p:spPr>
            <a:xfrm>
              <a:off x="0" y="0"/>
              <a:ext cx="10080720" cy="755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" name="Picture 17" descr="girl_laptop.jpg"/>
            <p:cNvPicPr/>
            <p:nvPr/>
          </p:nvPicPr>
          <p:blipFill>
            <a:blip r:embed="rId6"/>
            <a:stretch/>
          </p:blipFill>
          <p:spPr>
            <a:xfrm>
              <a:off x="5289840" y="179280"/>
              <a:ext cx="4502880" cy="66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9" descr="aspin-training.jpg"/>
            <p:cNvPicPr/>
            <p:nvPr/>
          </p:nvPicPr>
          <p:blipFill>
            <a:blip r:embed="rId7"/>
            <a:stretch/>
          </p:blipFill>
          <p:spPr>
            <a:xfrm>
              <a:off x="302040" y="6891120"/>
              <a:ext cx="271656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0" descr="aspin-elearning.jpg"/>
            <p:cNvPicPr/>
            <p:nvPr/>
          </p:nvPicPr>
          <p:blipFill>
            <a:blip r:embed="rId8"/>
            <a:stretch/>
          </p:blipFill>
          <p:spPr>
            <a:xfrm>
              <a:off x="3124800" y="6871680"/>
              <a:ext cx="315756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1" descr="aspin-consulting.jpg"/>
            <p:cNvPicPr/>
            <p:nvPr/>
          </p:nvPicPr>
          <p:blipFill>
            <a:blip r:embed="rId9"/>
            <a:stretch/>
          </p:blipFill>
          <p:spPr>
            <a:xfrm>
              <a:off x="6418080" y="6880680"/>
              <a:ext cx="332280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2" descr="coverslide-gradient.jpg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45212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3" descr="aspin-logo.jpg"/>
            <p:cNvPicPr/>
            <p:nvPr/>
          </p:nvPicPr>
          <p:blipFill>
            <a:blip r:embed="rId11"/>
            <a:stretch/>
          </p:blipFill>
          <p:spPr>
            <a:xfrm>
              <a:off x="359640" y="1738800"/>
              <a:ext cx="4152960" cy="15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79640" y="7380360"/>
            <a:ext cx="17683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287520" y="7380360"/>
            <a:ext cx="3192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69080" y="7380360"/>
            <a:ext cx="1008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101403-BEFF-4C57-BB74-EB86BA95AC8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2"/>
          <p:cNvGrpSpPr/>
          <p:nvPr/>
        </p:nvGrpSpPr>
        <p:grpSpPr>
          <a:xfrm>
            <a:off x="0" y="1158840"/>
            <a:ext cx="10090080" cy="6400800"/>
            <a:chOff x="0" y="1158840"/>
            <a:chExt cx="10090080" cy="6400800"/>
          </a:xfrm>
        </p:grpSpPr>
        <p:pic>
          <p:nvPicPr>
            <p:cNvPr id="101" name="Picture 14" descr="content-gradient.jpg"/>
            <p:cNvPicPr/>
            <p:nvPr/>
          </p:nvPicPr>
          <p:blipFill>
            <a:blip r:embed="rId2"/>
            <a:stretch/>
          </p:blipFill>
          <p:spPr>
            <a:xfrm>
              <a:off x="0" y="1158840"/>
              <a:ext cx="82548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bottom-content-slogan.jpg"/>
            <p:cNvPicPr/>
            <p:nvPr/>
          </p:nvPicPr>
          <p:blipFill>
            <a:blip r:embed="rId3"/>
            <a:stretch/>
          </p:blipFill>
          <p:spPr>
            <a:xfrm>
              <a:off x="0" y="6829560"/>
              <a:ext cx="781560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8" descr="content-line.jpg"/>
            <p:cNvPicPr/>
            <p:nvPr/>
          </p:nvPicPr>
          <p:blipFill>
            <a:blip r:embed="rId4"/>
            <a:stretch/>
          </p:blipFill>
          <p:spPr>
            <a:xfrm>
              <a:off x="1098720" y="1187280"/>
              <a:ext cx="8991360" cy="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1" descr="aspin-logo.jpg"/>
            <p:cNvPicPr/>
            <p:nvPr/>
          </p:nvPicPr>
          <p:blipFill>
            <a:blip r:embed="rId5"/>
            <a:stretch/>
          </p:blipFill>
          <p:spPr>
            <a:xfrm>
              <a:off x="7920360" y="6775560"/>
              <a:ext cx="1868760" cy="69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3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sp>
          <p:nvSpPr>
            <p:cNvPr id="106" name="Rectangle 16"/>
            <p:cNvSpPr/>
            <p:nvPr/>
          </p:nvSpPr>
          <p:spPr>
            <a:xfrm>
              <a:off x="0" y="0"/>
              <a:ext cx="10080720" cy="755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Picture 17" descr="girl_laptop.jpg"/>
            <p:cNvPicPr/>
            <p:nvPr/>
          </p:nvPicPr>
          <p:blipFill>
            <a:blip r:embed="rId6"/>
            <a:stretch/>
          </p:blipFill>
          <p:spPr>
            <a:xfrm>
              <a:off x="5289840" y="179280"/>
              <a:ext cx="4502880" cy="66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9" descr="coverslide-gradient.jpg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45212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0" descr="aspin-slogan.jpg"/>
            <p:cNvPicPr/>
            <p:nvPr/>
          </p:nvPicPr>
          <p:blipFill>
            <a:blip r:embed="rId8"/>
            <a:stretch/>
          </p:blipFill>
          <p:spPr>
            <a:xfrm>
              <a:off x="1079640" y="6842520"/>
              <a:ext cx="81536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1" descr="aspin-training-badge.jpg"/>
            <p:cNvPicPr/>
            <p:nvPr/>
          </p:nvPicPr>
          <p:blipFill>
            <a:blip r:embed="rId9"/>
            <a:stretch/>
          </p:blipFill>
          <p:spPr>
            <a:xfrm>
              <a:off x="2160000" y="3491640"/>
              <a:ext cx="6552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2" descr="aspin-elearning-badge.jpg"/>
            <p:cNvPicPr/>
            <p:nvPr/>
          </p:nvPicPr>
          <p:blipFill>
            <a:blip r:embed="rId10"/>
            <a:stretch/>
          </p:blipFill>
          <p:spPr>
            <a:xfrm>
              <a:off x="2160000" y="4320000"/>
              <a:ext cx="6552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3" descr="aspin-consulting-badge.jpg"/>
            <p:cNvPicPr/>
            <p:nvPr/>
          </p:nvPicPr>
          <p:blipFill>
            <a:blip r:embed="rId11"/>
            <a:stretch/>
          </p:blipFill>
          <p:spPr>
            <a:xfrm>
              <a:off x="2160000" y="5148000"/>
              <a:ext cx="66528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4" descr="aspin-logo.jpg"/>
            <p:cNvPicPr/>
            <p:nvPr/>
          </p:nvPicPr>
          <p:blipFill>
            <a:blip r:embed="rId12"/>
            <a:stretch/>
          </p:blipFill>
          <p:spPr>
            <a:xfrm>
              <a:off x="359640" y="1738800"/>
              <a:ext cx="4152960" cy="15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itle 1"/>
          <p:cNvSpPr/>
          <p:nvPr/>
        </p:nvSpPr>
        <p:spPr>
          <a:xfrm>
            <a:off x="503280" y="324000"/>
            <a:ext cx="302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079640" y="7380360"/>
            <a:ext cx="17683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287520" y="7380360"/>
            <a:ext cx="3192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69080" y="7380360"/>
            <a:ext cx="1008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326DB2-D814-48F3-986C-7F3BDAD96AB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1474560"/>
            <a:ext cx="84913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NBN e-learning Program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Evaluation &amp; Organisational Read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9280" y="4572000"/>
            <a:ext cx="84913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rgaret Aspin   Managing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 Ronald Aspin   Senior Consul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280" y="250560"/>
            <a:ext cx="84913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79280" y="1692000"/>
            <a:ext cx="84913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necting to the N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ectations that connection to roll out areas would not be an issue – not always so,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rmidale only connected in outer are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BN ready house in Brunswick charging $3,00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BN connected centres heavily b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280" y="178920"/>
            <a:ext cx="84913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79280" y="1547280"/>
            <a:ext cx="84913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ardware and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isting hardware and software were not adequate for e-learning using NBN broadband,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ld PCs had problems with audio and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viously useful e-learning software wasn’t up to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adsets were a comm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50560"/>
            <a:ext cx="84913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79280" y="1474560"/>
            <a:ext cx="849132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less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streaming with 10 plus (?) computers required each computer to be hardwire conn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router when using wireless affected download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0" y="250560"/>
            <a:ext cx="8491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79280" y="1547280"/>
            <a:ext cx="84913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ations of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have expectations that everything will work immediately and smoo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 confronting for som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 was an issue for some - needs to be simple and obvious or time to familiarise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0" y="250560"/>
            <a:ext cx="8491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79280" y="1547280"/>
            <a:ext cx="84913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members, teachers and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ssue for all e-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right people 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, prepare, test,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eople who know audio and video as well as basic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0" y="250560"/>
            <a:ext cx="8491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ummary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79280" y="1331640"/>
            <a:ext cx="84913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lots have been a significant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ed wide range of technologies; PoV, virtual world, 3D interactive gaming, HD video streaming, synchronous multi computer chat and streaming, mobile classroom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RTOs; community, TAFE, enterprise,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ed boundaries and most, but not all, found solutions to problem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9280" y="301320"/>
            <a:ext cx="84913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verall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79280" y="1547280"/>
            <a:ext cx="84913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eam experi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dominantly excitement and enthusiasm for more, met most expectation for most and exceeded expectation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arner experi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gaged, positive learning experience, minimal negative 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79280" y="1547280"/>
            <a:ext cx="84913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 you all and a special thanks to those who have shared their experience with us perso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4:48:22Z</dcterms:created>
  <dc:creator>MJR</dc:creator>
  <dc:description/>
  <dc:language>en-US</dc:language>
  <cp:lastModifiedBy>am</cp:lastModifiedBy>
  <dcterms:modified xsi:type="dcterms:W3CDTF">2012-05-29T04:58:03Z</dcterms:modified>
  <cp:revision>28</cp:revision>
  <dc:subject/>
  <dc:title>Slide 1</dc:title>
</cp:coreProperties>
</file>